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A96-D48A-41AA-A172-9CF4732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813-B424-4536-8F04-7F0D06A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296A6-9463-46ED-ABFB-C70A1DF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9A6C2-1846-4457-B8E2-08BF65F2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02EBE-419D-4AA6-9482-EB97F90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5FC56-EB97-4202-8449-465B4BF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75ABE-786D-4002-BE52-2011E17C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AC6A-D6D9-4BE3-BBF7-A1943EB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400D5-B5F8-457D-9DEB-122B305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6CE95-1A20-486B-A9D2-E52E7D13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76D5-8D91-4BE3-8254-B4360D08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78DAE-4C13-492A-BADF-4ED7718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0D6-0D17-45B9-8BA6-26D5316C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34B03-3889-4C73-861F-FD3FC8C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AA14E-AF54-450C-A906-B00B14F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2224A-75E2-4AA7-A28F-EADABFBE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A8FA6-AAA6-486B-BBD5-00CFA0B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BCCAD-47CF-4F39-9338-3885318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E0B90-EED1-4EB6-9387-8CAAD8A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1C22C-F110-47D4-8284-7E8386AE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52B2B-F324-43FF-91C6-272E684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1DFFA-9650-44FB-A79E-76A6463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8D643-E137-436C-874C-E2B35B72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97D-556F-46A6-9358-FB844511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6AC1C-92DD-4B84-89BF-C38D5940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C283-389C-4AA8-A20D-096DA9E6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5C380-558D-4DDA-B450-0AEB88E1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56D9C-8594-4C1F-A471-CAB0664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9947C-9389-4B09-BF9E-AC2306CF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2FCCC-1532-4E3A-94D5-CEA8F15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1B2C9-1939-47F4-AA33-21E49FE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15B3-BC85-46FA-AFC5-B2531A65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9AB4B-B8E1-434A-B89C-DB3FF3C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E1F84-4A50-4BA5-920C-4C9AE80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4908-ECCD-431F-8611-014FB308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AE88B-04FB-4C39-AEC8-D9D2D32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8F3F-AF0A-4AB7-A56C-FED1715B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E00E9-2606-4EFD-93A0-A8134CCE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B6D72-B415-4A72-B50F-8D4858EC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6A080-B37D-4805-9ADB-5BF5291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AFC48-3997-483C-8D98-3CED14AE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30D79-69E0-4748-B171-8250684C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6E432-EE9A-4C6A-BB0A-0A32DB1C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E54B9-DDDB-404A-AFC8-3CBEC988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D575D-6659-4145-A157-ABEEB92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48B-C211-4096-B483-BF19C8E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9CD5-A73C-49CC-ACB3-BBCB049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20BAC-0737-4BB8-AF54-3C7FB6B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6892E-441A-40A3-9F30-E0DB66C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62187-32AB-444A-899A-2E173FEC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381F8-BB28-4A6C-9B54-7117085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3B18-5E69-4D0A-8436-53FCE46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951-264E-438C-ABCB-14605C2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EDC9-F17B-4711-9B58-690E148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4D3E-80D5-4D48-9F79-2F229055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685-F921-4295-AC9D-02E8277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B96-F0AF-4DDC-AB43-8BA1E41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A487-A518-421A-95B4-681435ED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2861-1C84-4BBA-A054-2489744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2BA-3154-4505-B9ED-870B615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2DC-5463-47BE-BA95-0368533C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56A-F27A-4F36-9A84-54AEB26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2797-0BFC-4749-A3EA-B9072690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5F80-362F-4C56-BC30-2BB78102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1AE4-2130-4EE3-865D-76697D4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7113-E847-432E-AC57-DA0E1E9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2151-351B-473D-AE8B-7CB13B2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081-6E0E-43ED-BBF3-40F0838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8ECF-AD45-428D-9270-0CABD700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C385-12FB-401B-9C98-4A64D63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C45A-CE05-4C5A-8C34-87ED55E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9D5C-A206-410D-9878-5E5B0E9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C314-780B-4FE6-9F6F-193A185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A2CB-C3B6-4155-B011-BCC72FA4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DB37-7E66-41FA-88A5-0CD11CAC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81C0-C884-4924-ABF2-7B2DC247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D9E7-51B0-4A5C-8488-6B574B9B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DF33-85BB-402B-8806-C802A7B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A99-19C5-4942-89EF-2B34FF21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1C60-9568-45FB-93E3-926E9073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A5E7-1CA9-4766-B947-76482A1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CCFA-E7CE-4A7C-8E40-E3DBC99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039B-04E1-4B40-AB5E-E089B88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05DE-9260-44BA-B41D-D46F31B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42CA-701B-46C9-8CA5-E9D1337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2E1C-8BB5-4D4D-8B55-0E4A837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0604-CABD-4A33-94D5-1D604F22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311D-D37A-4F6B-B8ED-55D14C75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4B27-A88F-4B97-B8C3-E3D3FFB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95A-F69A-4C43-A399-7E544BF1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376F-FC24-4C1C-91C0-D852D87C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A1D3-D3C3-4D0E-8799-E7400ABB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B053-48FA-4AE9-8E23-B1A0CE4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8E1B-4468-46C2-876B-FE995232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6E97-55CE-4360-B79B-6DB3162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99D10-71F5-4AA9-915D-4B854B0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C6F3-F63F-490B-8F72-A440F50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E9E4-2426-440C-B050-7E0E9C7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C3AD-775D-49F3-A400-7D3E042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A228-E0B3-4AD3-9120-D3E609A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96C-F7E2-4134-BB40-CE071D4A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8CDB1-FCE9-4D78-8FA0-6680C1EF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3B99-C882-45A6-B7A0-11123881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AC1D-B2C5-4C00-862D-BDEF8FF2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2E85-99A4-4C4D-A808-EE452B1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4BA2-162B-4736-A87D-E63CAA47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661E-B8D5-4051-B702-D4AB463C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CEAE-1E78-4CCF-B184-49EFC40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A673-B724-40CD-AD94-A361230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ADFC-10B8-41F6-98A3-5838F934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D9C0E-0FC0-4F09-BCE2-63939D0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187-C934-4976-9393-148B3DC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BE16-4E42-4A5A-A68F-F73FC6D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846D-7600-4D31-84B5-13672C9D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1ACF-F322-40BB-9596-EA43783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7D432-0A4E-46A5-BB07-DA5AFF62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40C3-5F8E-4F29-897C-B6F20A3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EB4B-6D80-4BFF-8A9C-C4627B3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0677-C768-4EE1-ADD6-84D4B49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25A77-B403-4491-8F99-4CAE3EC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9B35-6424-4119-803C-861CA91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2A1C3-C3D8-4042-84B7-9306343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7B8-BC0D-4BDE-B767-25A97AD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B67A2-8A23-4A93-BF68-EE504DB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5228E-D088-43DE-AA81-B6A7D54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8D2B-0D35-4FB1-9643-7B83162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46FA-49C8-46B4-AEC1-21D69C44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EE908-641F-4FFB-85DE-76F89BF3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CC216-E5A4-410C-AB0F-B1FFC830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FD8F-B5D3-47B8-8F97-B057B66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0C6A-FA3F-47C7-B351-B48E7E4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0BB7D-A722-4896-BCF1-807E39B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932E-6484-4C96-8222-2939591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759-6E2A-4F5C-8254-C4976A3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DB77A-FD94-46C6-B53E-BC0E3E4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36805-9109-45D0-80B6-4464415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21E6A-724D-491F-AC72-A4EEE93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7A23-F9DB-4D4D-8762-1772E0E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3186F-4433-4526-A2D5-09F3E7B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303CD-0F98-40B9-8E9C-B0A3D4C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32DF1-4326-468E-8585-A88AE206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0192C-9DE0-4AA6-82C8-B3E73CCA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6395B-0362-407B-B2CA-3CB4548C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209B9-20F7-4D5F-B2C5-8652473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AC4-B851-4412-A2B8-092BD93E91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CA73-439E-4EB3-AB30-D3B6D815E1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7F77-32BB-4E11-95E5-E63A280276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2A0-0703-4F50-AB63-B05B0E8202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DB7E-8507-4742-BCA9-25D9559E1A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220-B784-4518-86E7-C133431285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02A-5F52-4183-9340-F0EFFB64B4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1B11-0A24-4411-966D-791DFDD13DA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E85-D738-4C9C-841B-B174CC2F49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881-D15D-410F-AF51-3BF3B9A3CE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7AA8-859E-4B47-8454-EF3A762FDB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2AD-1F6D-4419-8DED-DE35D508C7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6 Zrak viery upie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upier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ty, slávy Pá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dokon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hanbu vín si zmy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lh môj zaplat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úk trestu pozbav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o mnou, Pane,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droj spásy v tebe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vojím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ma vyhľa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eba za mňa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om raz právo m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cestou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esni ma mrák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múti žia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zy mi zotie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íl slabej viere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ieť večný domov pr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mi aj smrti mra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navždy zastrieť z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dúfa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si môj Stvor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mocný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ý Teš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iac mať chce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3:03Z</dcterms:modified>
  <cp:revision>22</cp:revision>
  <dc:subject/>
  <dc:title>Je veľký náš Pán, on slávy je Kráľ Nech do všetkých strán  spev vrúcnych znie chvál.</dc:title>
</cp:coreProperties>
</file>